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048-4949-46DC-ACB4-93CD6829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31D-E546-4A15-8274-C1CC00AD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3EE-09A9-4981-AC93-11BF77B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549-BE96-48DC-86EB-45876468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1AA-59CB-42A7-B0DB-E830C311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8D1-1873-4746-A366-E7C98286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7D3-007A-4215-86FA-46185B47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030-895C-41C3-B92E-F75C67E3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A12-EF32-4394-8229-B5F3A603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7E9-3AE1-4F81-8342-FD86AAF9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8BD-B97C-4A84-81FF-120ACBB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173-036C-4C94-AE1D-EB6F477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F960-5FA0-4104-82D5-24A26DB16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il pollu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a Sta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s making a bad choice in the 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287028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76240" y="411480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rric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rricane happening and putting oil in the clean ocean and making it b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s &amp; Other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aby duck covered in 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49520" y="1981080"/>
            <a:ext cx="2243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 seal in lots of 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108160"/>
            <a:ext cx="3809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k saying STOP OIL POL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674800"/>
            <a:ext cx="38098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20:15Z</dcterms:created>
  <dc:creator>Durling Clearview</dc:creator>
  <dc:description/>
  <dc:language>en-US</dc:language>
  <cp:lastModifiedBy>Durling Clearview</cp:lastModifiedBy>
  <dcterms:modified xsi:type="dcterms:W3CDTF">2009-12-17T14:06:28Z</dcterms:modified>
  <cp:revision>3</cp:revision>
  <dc:subject/>
  <dc:title>Oil pollution</dc:title>
</cp:coreProperties>
</file>